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AF1-E45C-4F18-81A9-C617C512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DC9-E7C1-4424-A611-9A253065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1FC-625B-44AE-B14E-425A9B3B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8C3-DA43-4964-83A4-BEBB06EF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493-9CB5-4357-AAA1-7321246B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E95C-BB3D-4F5A-B5D9-0B15951A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23D-E22A-4421-90C1-43577FF4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080-1F89-499F-A6D5-5F8BC16B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B44-1FD7-46A6-9857-AC15B7B3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C8E-7659-4772-A9A4-A7C647C4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CA7-1593-4BEF-9479-7CCA5E34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F18-94CF-4371-A3EC-A46A2A37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88EF-9942-43BC-A89E-C24AD8530D12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2133720"/>
            <a:ext cx="504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matare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393372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elulel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052640"/>
            <a:ext cx="3889440" cy="36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Num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ă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989000"/>
            <a:ext cx="3889440" cy="368280"/>
          </a:xfrm>
          <a:prstGeom prst="rect">
            <a:avLst/>
          </a:prstGeom>
          <a:solidFill>
            <a:srgbClr val="00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lin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997360"/>
            <a:ext cx="396072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789360"/>
            <a:ext cx="396072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Bordu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653000"/>
            <a:ext cx="396072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od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516640"/>
            <a:ext cx="396072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otecţ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284720" y="1197000"/>
          <a:ext cx="4608360" cy="468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84720" y="1197000"/>
                    <a:ext cx="46083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ă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052640"/>
            <a:ext cx="201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ic dreapta 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lu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052640"/>
            <a:ext cx="201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orma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1341360"/>
            <a:ext cx="936720" cy="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24360" y="1700280"/>
          <a:ext cx="4895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1700280"/>
                    <a:ext cx="4895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84360" y="1773360"/>
            <a:ext cx="2016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oned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tab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ocent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racţ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tiinţ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rticulari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989000"/>
            <a:ext cx="2448000" cy="719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2349360"/>
            <a:ext cx="2521080" cy="503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2852640"/>
            <a:ext cx="244800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3284640"/>
            <a:ext cx="280836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187280" y="3500280"/>
            <a:ext cx="2953080" cy="14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763640" y="3644640"/>
            <a:ext cx="2303640" cy="43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476360" y="3860640"/>
            <a:ext cx="2590920" cy="648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547640" y="4005000"/>
            <a:ext cx="2592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187280" y="4149360"/>
            <a:ext cx="2953080" cy="1079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547640" y="4365720"/>
            <a:ext cx="2519640" cy="1295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050920" y="4508280"/>
            <a:ext cx="201636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6021360"/>
            <a:ext cx="865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ni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00720" y="1197000"/>
          <a:ext cx="4032000" cy="43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197000"/>
                    <a:ext cx="4032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4360" y="981000"/>
            <a:ext cx="2879640" cy="576360"/>
          </a:xfrm>
          <a:prstGeom prst="wedgeRoundRectCallout">
            <a:avLst>
              <a:gd name="adj1" fmla="val 89689"/>
              <a:gd name="adj2" fmla="val 163773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iniază conţinutul celulelor pe orizontal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1773360"/>
            <a:ext cx="2305080" cy="647640"/>
          </a:xfrm>
          <a:prstGeom prst="wedgeRoundRectCallout">
            <a:avLst>
              <a:gd name="adj1" fmla="val 133541"/>
              <a:gd name="adj2" fmla="val 131861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iniază conţinutul celulelor pe vertical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2637000"/>
            <a:ext cx="2160720" cy="576000"/>
          </a:xfrm>
          <a:prstGeom prst="wedgeRoundRectCallout">
            <a:avLst>
              <a:gd name="adj1" fmla="val 137435"/>
              <a:gd name="adj2" fmla="val 132092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ncadrează textul prin trecere pe un rând n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429000"/>
            <a:ext cx="2232000" cy="431640"/>
          </a:xfrm>
          <a:prstGeom prst="wedgeRoundRectCallout">
            <a:avLst>
              <a:gd name="adj1" fmla="val 127171"/>
              <a:gd name="adj2" fmla="val 133453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eşte celul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4869000"/>
            <a:ext cx="2521080" cy="720720"/>
          </a:xfrm>
          <a:prstGeom prst="wedgeRoundRectCallout">
            <a:avLst>
              <a:gd name="adj1" fmla="val 187467"/>
              <a:gd name="adj2" fmla="val -18832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mite rotirea textului cu un număr de 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6021360"/>
            <a:ext cx="865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700360" y="1844640"/>
          <a:ext cx="3790800" cy="363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844640"/>
                    <a:ext cx="37908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68360" y="1916280"/>
            <a:ext cx="1727280" cy="720720"/>
          </a:xfrm>
          <a:custGeom>
            <a:avLst/>
            <a:gdLst>
              <a:gd name="textAreaLeft" fmla="*/ 335880 w 1727280"/>
              <a:gd name="textAreaRight" fmla="*/ 1391400 w 1727280"/>
              <a:gd name="textAreaTop" fmla="*/ 140040 h 720720"/>
              <a:gd name="textAreaBottom" fmla="*/ 5806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48" y="14295"/>
                </a:lnTo>
                <a:lnTo>
                  <a:pt x="3163" y="18437"/>
                </a:lnTo>
                <a:lnTo>
                  <a:pt x="7154" y="19389"/>
                </a:lnTo>
                <a:lnTo>
                  <a:pt x="10800" y="21600"/>
                </a:lnTo>
                <a:lnTo>
                  <a:pt x="14295" y="19452"/>
                </a:lnTo>
                <a:lnTo>
                  <a:pt x="18437" y="18437"/>
                </a:lnTo>
                <a:lnTo>
                  <a:pt x="19389" y="14446"/>
                </a:lnTo>
                <a:lnTo>
                  <a:pt x="21600" y="10800"/>
                </a:lnTo>
                <a:lnTo>
                  <a:pt x="19452" y="7305"/>
                </a:lnTo>
                <a:lnTo>
                  <a:pt x="18437" y="3163"/>
                </a:lnTo>
                <a:lnTo>
                  <a:pt x="14446" y="2211"/>
                </a:lnTo>
                <a:lnTo>
                  <a:pt x="10800" y="0"/>
                </a:lnTo>
                <a:lnTo>
                  <a:pt x="7305" y="2148"/>
                </a:lnTo>
                <a:lnTo>
                  <a:pt x="3163" y="3163"/>
                </a:lnTo>
                <a:lnTo>
                  <a:pt x="2211" y="71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ipul fon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3213000"/>
            <a:ext cx="1727280" cy="720720"/>
          </a:xfrm>
          <a:custGeom>
            <a:avLst/>
            <a:gdLst>
              <a:gd name="textAreaLeft" fmla="*/ 335880 w 1727280"/>
              <a:gd name="textAreaRight" fmla="*/ 1391400 w 1727280"/>
              <a:gd name="textAreaTop" fmla="*/ 140040 h 720720"/>
              <a:gd name="textAreaBottom" fmla="*/ 5806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48" y="14295"/>
                </a:lnTo>
                <a:lnTo>
                  <a:pt x="3163" y="18437"/>
                </a:lnTo>
                <a:lnTo>
                  <a:pt x="7154" y="19389"/>
                </a:lnTo>
                <a:lnTo>
                  <a:pt x="10800" y="21600"/>
                </a:lnTo>
                <a:lnTo>
                  <a:pt x="14295" y="19452"/>
                </a:lnTo>
                <a:lnTo>
                  <a:pt x="18437" y="18437"/>
                </a:lnTo>
                <a:lnTo>
                  <a:pt x="19389" y="14446"/>
                </a:lnTo>
                <a:lnTo>
                  <a:pt x="21600" y="10800"/>
                </a:lnTo>
                <a:lnTo>
                  <a:pt x="19452" y="7305"/>
                </a:lnTo>
                <a:lnTo>
                  <a:pt x="18437" y="3163"/>
                </a:lnTo>
                <a:lnTo>
                  <a:pt x="14446" y="2211"/>
                </a:lnTo>
                <a:lnTo>
                  <a:pt x="10800" y="0"/>
                </a:lnTo>
                <a:lnTo>
                  <a:pt x="7305" y="2148"/>
                </a:lnTo>
                <a:lnTo>
                  <a:pt x="3163" y="3163"/>
                </a:lnTo>
                <a:lnTo>
                  <a:pt x="2211" y="71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ipul liniei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ubliniaz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4581360"/>
            <a:ext cx="1727280" cy="792360"/>
          </a:xfrm>
          <a:custGeom>
            <a:avLst/>
            <a:gdLst>
              <a:gd name="textAreaLeft" fmla="*/ 335880 w 1727280"/>
              <a:gd name="textAreaRight" fmla="*/ 1391400 w 1727280"/>
              <a:gd name="textAreaTop" fmla="*/ 154080 h 792360"/>
              <a:gd name="textAreaBottom" fmla="*/ 63828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48" y="14295"/>
                </a:lnTo>
                <a:lnTo>
                  <a:pt x="3163" y="18437"/>
                </a:lnTo>
                <a:lnTo>
                  <a:pt x="7154" y="19389"/>
                </a:lnTo>
                <a:lnTo>
                  <a:pt x="10800" y="21600"/>
                </a:lnTo>
                <a:lnTo>
                  <a:pt x="14295" y="19452"/>
                </a:lnTo>
                <a:lnTo>
                  <a:pt x="18437" y="18437"/>
                </a:lnTo>
                <a:lnTo>
                  <a:pt x="19389" y="14446"/>
                </a:lnTo>
                <a:lnTo>
                  <a:pt x="21600" y="10800"/>
                </a:lnTo>
                <a:lnTo>
                  <a:pt x="19452" y="7305"/>
                </a:lnTo>
                <a:lnTo>
                  <a:pt x="18437" y="3163"/>
                </a:lnTo>
                <a:lnTo>
                  <a:pt x="14446" y="2211"/>
                </a:lnTo>
                <a:lnTo>
                  <a:pt x="10800" y="0"/>
                </a:lnTo>
                <a:lnTo>
                  <a:pt x="7305" y="2148"/>
                </a:lnTo>
                <a:lnTo>
                  <a:pt x="3163" y="3163"/>
                </a:lnTo>
                <a:lnTo>
                  <a:pt x="2211" y="71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Efectele  care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plică  textul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7080" y="1916280"/>
            <a:ext cx="1727280" cy="720720"/>
          </a:xfrm>
          <a:custGeom>
            <a:avLst/>
            <a:gdLst>
              <a:gd name="textAreaLeft" fmla="*/ 335880 w 1727280"/>
              <a:gd name="textAreaRight" fmla="*/ 1391400 w 1727280"/>
              <a:gd name="textAreaTop" fmla="*/ 140040 h 720720"/>
              <a:gd name="textAreaBottom" fmla="*/ 5806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48" y="14295"/>
                </a:lnTo>
                <a:lnTo>
                  <a:pt x="3163" y="18437"/>
                </a:lnTo>
                <a:lnTo>
                  <a:pt x="7154" y="19389"/>
                </a:lnTo>
                <a:lnTo>
                  <a:pt x="10800" y="21600"/>
                </a:lnTo>
                <a:lnTo>
                  <a:pt x="14295" y="19452"/>
                </a:lnTo>
                <a:lnTo>
                  <a:pt x="18437" y="18437"/>
                </a:lnTo>
                <a:lnTo>
                  <a:pt x="19389" y="14446"/>
                </a:lnTo>
                <a:lnTo>
                  <a:pt x="21600" y="10800"/>
                </a:lnTo>
                <a:lnTo>
                  <a:pt x="19452" y="7305"/>
                </a:lnTo>
                <a:lnTo>
                  <a:pt x="18437" y="3163"/>
                </a:lnTo>
                <a:lnTo>
                  <a:pt x="14446" y="2211"/>
                </a:lnTo>
                <a:lnTo>
                  <a:pt x="10800" y="0"/>
                </a:lnTo>
                <a:lnTo>
                  <a:pt x="7305" y="2148"/>
                </a:lnTo>
                <a:lnTo>
                  <a:pt x="3163" y="3163"/>
                </a:lnTo>
                <a:lnTo>
                  <a:pt x="2211" y="71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tilul fontul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3284640"/>
            <a:ext cx="1727280" cy="720720"/>
          </a:xfrm>
          <a:custGeom>
            <a:avLst/>
            <a:gdLst>
              <a:gd name="textAreaLeft" fmla="*/ 335880 w 1727280"/>
              <a:gd name="textAreaRight" fmla="*/ 1391400 w 1727280"/>
              <a:gd name="textAreaTop" fmla="*/ 140040 h 720720"/>
              <a:gd name="textAreaBottom" fmla="*/ 5806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48" y="14295"/>
                </a:lnTo>
                <a:lnTo>
                  <a:pt x="3163" y="18437"/>
                </a:lnTo>
                <a:lnTo>
                  <a:pt x="7154" y="19389"/>
                </a:lnTo>
                <a:lnTo>
                  <a:pt x="10800" y="21600"/>
                </a:lnTo>
                <a:lnTo>
                  <a:pt x="14295" y="19452"/>
                </a:lnTo>
                <a:lnTo>
                  <a:pt x="18437" y="18437"/>
                </a:lnTo>
                <a:lnTo>
                  <a:pt x="19389" y="14446"/>
                </a:lnTo>
                <a:lnTo>
                  <a:pt x="21600" y="10800"/>
                </a:lnTo>
                <a:lnTo>
                  <a:pt x="19452" y="7305"/>
                </a:lnTo>
                <a:lnTo>
                  <a:pt x="18437" y="3163"/>
                </a:lnTo>
                <a:lnTo>
                  <a:pt x="14446" y="2211"/>
                </a:lnTo>
                <a:lnTo>
                  <a:pt x="10800" y="0"/>
                </a:lnTo>
                <a:lnTo>
                  <a:pt x="7305" y="2148"/>
                </a:lnTo>
                <a:lnTo>
                  <a:pt x="3163" y="3163"/>
                </a:lnTo>
                <a:lnTo>
                  <a:pt x="2211" y="71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imensiun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extul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4653000"/>
            <a:ext cx="1727280" cy="720720"/>
          </a:xfrm>
          <a:custGeom>
            <a:avLst/>
            <a:gdLst>
              <a:gd name="textAreaLeft" fmla="*/ 335880 w 1727280"/>
              <a:gd name="textAreaRight" fmla="*/ 1391400 w 1727280"/>
              <a:gd name="textAreaTop" fmla="*/ 140040 h 720720"/>
              <a:gd name="textAreaBottom" fmla="*/ 5806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48" y="14295"/>
                </a:lnTo>
                <a:lnTo>
                  <a:pt x="3163" y="18437"/>
                </a:lnTo>
                <a:lnTo>
                  <a:pt x="7154" y="19389"/>
                </a:lnTo>
                <a:lnTo>
                  <a:pt x="10800" y="21600"/>
                </a:lnTo>
                <a:lnTo>
                  <a:pt x="14295" y="19452"/>
                </a:lnTo>
                <a:lnTo>
                  <a:pt x="18437" y="18437"/>
                </a:lnTo>
                <a:lnTo>
                  <a:pt x="19389" y="14446"/>
                </a:lnTo>
                <a:lnTo>
                  <a:pt x="21600" y="10800"/>
                </a:lnTo>
                <a:lnTo>
                  <a:pt x="19452" y="7305"/>
                </a:lnTo>
                <a:lnTo>
                  <a:pt x="18437" y="3163"/>
                </a:lnTo>
                <a:lnTo>
                  <a:pt x="14446" y="2211"/>
                </a:lnTo>
                <a:lnTo>
                  <a:pt x="10800" y="0"/>
                </a:lnTo>
                <a:lnTo>
                  <a:pt x="7305" y="2148"/>
                </a:lnTo>
                <a:lnTo>
                  <a:pt x="3163" y="3163"/>
                </a:lnTo>
                <a:lnTo>
                  <a:pt x="2211" y="71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uloarea textul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95640" y="2276640"/>
            <a:ext cx="647640" cy="288720"/>
          </a:xfrm>
          <a:prstGeom prst="line">
            <a:avLst/>
          </a:prstGeom>
          <a:ln w="57240">
            <a:solidFill>
              <a:srgbClr val="3015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3573360"/>
            <a:ext cx="503280" cy="0"/>
          </a:xfrm>
          <a:prstGeom prst="line">
            <a:avLst/>
          </a:prstGeom>
          <a:ln w="57240">
            <a:solidFill>
              <a:srgbClr val="3015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340000" y="4005360"/>
            <a:ext cx="431640" cy="1008000"/>
          </a:xfrm>
          <a:prstGeom prst="line">
            <a:avLst/>
          </a:prstGeom>
          <a:ln w="57240">
            <a:solidFill>
              <a:srgbClr val="3015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003640" y="2276640"/>
            <a:ext cx="1873440" cy="215640"/>
          </a:xfrm>
          <a:prstGeom prst="line">
            <a:avLst/>
          </a:prstGeom>
          <a:ln w="57240">
            <a:solidFill>
              <a:srgbClr val="3015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940000" y="2781000"/>
            <a:ext cx="1079640" cy="863640"/>
          </a:xfrm>
          <a:prstGeom prst="line">
            <a:avLst/>
          </a:prstGeom>
          <a:ln w="57240">
            <a:solidFill>
              <a:srgbClr val="3015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19280" y="3573360"/>
            <a:ext cx="1800360" cy="1440000"/>
          </a:xfrm>
          <a:prstGeom prst="line">
            <a:avLst/>
          </a:prstGeom>
          <a:ln w="57240">
            <a:solidFill>
              <a:srgbClr val="3015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6021360"/>
            <a:ext cx="865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d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27280" y="1628640"/>
          <a:ext cx="3819600" cy="366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1628640"/>
                    <a:ext cx="381960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948360" y="1413000"/>
            <a:ext cx="1440000" cy="720720"/>
          </a:xfrm>
          <a:prstGeom prst="wedgeRectCallout">
            <a:avLst>
              <a:gd name="adj1" fmla="val -213615"/>
              <a:gd name="adj2" fmla="val 98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Bordura prestabilita, cu sau făr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133720"/>
            <a:ext cx="1440000" cy="720720"/>
          </a:xfrm>
          <a:prstGeom prst="wedgeRectCallout">
            <a:avLst>
              <a:gd name="adj1" fmla="val 291125"/>
              <a:gd name="adj2" fmla="val 30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egem stilul bordur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716280"/>
            <a:ext cx="1440000" cy="720720"/>
          </a:xfrm>
          <a:prstGeom prst="wedgeRectCallout">
            <a:avLst>
              <a:gd name="adj1" fmla="val 124421"/>
              <a:gd name="adj2" fmla="val -113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Bordură particularizată laturi diag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4508640"/>
            <a:ext cx="1440000" cy="720720"/>
          </a:xfrm>
          <a:prstGeom prst="wedgeRectCallout">
            <a:avLst>
              <a:gd name="adj1" fmla="val -121666"/>
              <a:gd name="adj2" fmla="val -10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ege culoarea pentru bordur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6021360"/>
            <a:ext cx="865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924360" y="1557360"/>
          <a:ext cx="3800520" cy="36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1557360"/>
                    <a:ext cx="380052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403280" y="1844640"/>
            <a:ext cx="1728720" cy="576360"/>
          </a:xfrm>
          <a:prstGeom prst="wedgeRectCallout">
            <a:avLst>
              <a:gd name="adj1" fmla="val 128143"/>
              <a:gd name="adj2" fmla="val 144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mite alegerea culorii de fun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716280"/>
            <a:ext cx="1728720" cy="576360"/>
          </a:xfrm>
          <a:prstGeom prst="wedgeRectCallout">
            <a:avLst>
              <a:gd name="adj1" fmla="val 117495"/>
              <a:gd name="adj2" fmla="val 411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mite alegerea haşurii  de fun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6021360"/>
            <a:ext cx="865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cţ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3280" y="1773360"/>
          <a:ext cx="4032360" cy="38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1773360"/>
                    <a:ext cx="4032360" cy="38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116000" y="1989000"/>
            <a:ext cx="237636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rmite bloc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3860640"/>
            <a:ext cx="237636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rmite ascund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2421000"/>
            <a:ext cx="129564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492360" y="2852640"/>
            <a:ext cx="1366920" cy="1440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6021360"/>
            <a:ext cx="865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a de forma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8388360" cy="38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6200000">
            <a:off x="2329560" y="1494360"/>
            <a:ext cx="372960" cy="4241880"/>
          </a:xfrm>
          <a:custGeom>
            <a:avLst/>
            <a:gdLst>
              <a:gd name="textAreaLeft" fmla="*/ 238320 w 372960"/>
              <a:gd name="textAreaRight" fmla="*/ 373320 w 372960"/>
              <a:gd name="textAreaTop" fmla="*/ 110520 h 4241880"/>
              <a:gd name="textAreaBottom" fmla="*/ 4131360 h 424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378936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oane de formatar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5435640" y="2709360"/>
            <a:ext cx="360360" cy="136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364500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oane pentru formatarea caracteristicilor nume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6551280" y="2313000"/>
            <a:ext cx="360360" cy="718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1413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oane pentru id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7667640" y="2781000"/>
            <a:ext cx="360360" cy="136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386064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oane pentru formatarea bordurilor si a culo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3:43:24Z</dcterms:created>
  <dc:creator>simona</dc:creator>
  <dc:description/>
  <dc:language>en-US</dc:language>
  <cp:lastModifiedBy>statia7</cp:lastModifiedBy>
  <dcterms:modified xsi:type="dcterms:W3CDTF">2010-01-19T07:04:06Z</dcterms:modified>
  <cp:revision>7</cp:revision>
  <dc:subject/>
  <dc:title>Slide 1</dc:title>
</cp:coreProperties>
</file>